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F372-54D5-40E8-80FE-BA1C62C8C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7F37-CE4C-4BE9-9DCD-AD4FCC9F8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F309-FF6D-4400-9215-DBDD35AAF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B569-8ADC-441A-97E6-EE1CA99CE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6C6D-5210-4532-9AF5-18BB14DF8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C7BB5-429E-45FC-9A89-50504373B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3497-2239-44AE-AFF4-8D5BBCAA4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2635-261B-4F9D-B37C-6A2249975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1BCE-FA6A-4785-9E50-59F479BDE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1ED4-887E-4A9B-A31C-249CD2217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7459-A1A2-4DC5-AE79-FB9E895CF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BD8C-D4BE-4EF7-A200-02DFB24D5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446B99-733B-4032-9772-3985B8996EF8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e la modernisation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à la réforme de l’Etat</a:t>
            </a: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en France</a:t>
            </a:r>
            <a:br>
              <a:rPr sz="34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341360"/>
            <a:ext cx="8675640" cy="5397480"/>
            <a:chOff x="287280" y="1341360"/>
            <a:chExt cx="8675640" cy="5397480"/>
          </a:xfrm>
        </p:grpSpPr>
        <p:sp>
          <p:nvSpPr>
            <p:cNvPr id="149" name=""/>
            <p:cNvSpPr/>
            <p:nvPr/>
          </p:nvSpPr>
          <p:spPr>
            <a:xfrm>
              <a:off x="757080" y="515772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5435640"/>
              <a:ext cx="2350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Chaque administration met à disposition de l’usager ses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informations et documents « brut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484280"/>
              <a:ext cx="5543640" cy="45655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2360" y="1341360"/>
              <a:ext cx="2662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Vers une administration centrée sur l’us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2360" y="364500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4560" y="3922560"/>
              <a:ext cx="2351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Une chaîne de traitement «en ligne» amène à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repenser les processus, organisations et mét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2720" y="2205000"/>
              <a:ext cx="2806560" cy="13669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4920" y="2482920"/>
              <a:ext cx="235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L’administration se tourne vers l’usager pour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mieux répondre à ses att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560" y="3479760"/>
              <a:ext cx="201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s travers d’u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dministration «auto-centrée»: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mplexité,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élais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64000" y="5302080"/>
              <a:ext cx="1306440" cy="28440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7800 h 284400"/>
                <a:gd name="textAreaBottom" fmla="*/ 2466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8000" y="4726080"/>
              <a:ext cx="273528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dématérialisation de la déclaration de l’impôt sur le revenu avec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il : Administration24h24.gouv.fr : 600 formalités « dématérialisées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32360" y="3789360"/>
              <a:ext cx="1306800" cy="284040"/>
            </a:xfrm>
            <a:custGeom>
              <a:avLst/>
              <a:gdLst>
                <a:gd name="textAreaLeft" fmla="*/ 228600 w 1306800"/>
                <a:gd name="textAreaRight" fmla="*/ 947520 w 1306800"/>
                <a:gd name="textAreaTop" fmla="*/ 37800 h 284040"/>
                <a:gd name="textAreaBottom" fmla="*/ 2462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9280" y="2565360"/>
              <a:ext cx="1763640" cy="21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ur 1 thème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changement d’adresse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n transversal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: un espace de stockage de données administratives certifiées et l’accès aux démarches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4720" y="6453360"/>
              <a:ext cx="1306440" cy="28548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8160 h 285480"/>
                <a:gd name="textAreaBottom" fmla="*/ 24732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0000" y="6237360"/>
              <a:ext cx="223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ires pdf  à imprimer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sur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8920" y="514116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0560" y="362988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0920" y="218844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 développement de l’administration électronique : un levier de transformation pour toute l’admini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1047-8144-4B51-8D82-5419E0C68DF8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développement des services en lig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ématérialiser les démarches et offrir d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nouveaux services en ligne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matérialisation des formulair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accès par un site unique (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ngement d’adress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15 services, 30% des déménag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ctes de naissanc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5.000 demandes par jour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éploiement début 2009 du portail « 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xpérim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man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subventions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a France est entrée dans l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op 5 européen pour les services publics en lign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étude Capgemini pour la Commission européenne, ju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C4FE-D58F-4608-845A-7F25EE5E4429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00A3-B0BC-4A72-97FE-C5298B15AD5B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conduite de la réforme de l’E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5 : La réforme de l’Eta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tachée au Premier Ministr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Commissariat à la réforme de l’Etat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7-2005 : La réforme de l’Etat rattaché a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e de la fonction publiqu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Délégation interministérielle à la réforme de l’Etat (DIRE) puis divers organismes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003 : Direction de la réforme budgétaire (DRB) au ministère du budget pour la mise en œuvre de la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5 : Le rattachement de la réforme de l’Etat auprès du Budge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réation de la direction générale de la modernisation de l’Etat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volonté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ique, une continuité entre réforme budgétaire et réforme de l’Et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synergi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des compétences et des leviers d’a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7 : Budget + Réforme de l’Etat + Fonction publique auprès du ministre du budge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4246-3608-4741-BB2C-76A3BCC4A241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 rattachement au ministre du budg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fusion de toutes les structures existantes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assurant la synergie des compétences et des leviers d’ac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Mission de la DGME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«Coordonner, aider et inciter, au niveau interministériel, les administrations en vue de moderniser les modes de fonctionnement et de gestion de l’Etat pour améliorer le service rendu aux usagers, contribuer à une utilisation plus performante des deniers publics et mobiliser les agents publics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ne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sation pour l’essentiel en mode projet : conseil/ services/innov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culture mixte public/privé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: fonctionnaires d’Etat et contractuels du secteur privé +assistance de prestataires extérieurs de cabinets de consei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Définir des référentiels et mettre en cohérence les sujets interministériels clés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Impulser les chantiers concrets de modernis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Aider et accompagner les administrations dans leurs transformations</a:t>
            </a:r>
            <a:r>
              <a:rPr b="0" lang="pl-PL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0F1F-1082-4AC8-A36C-91333CA01E99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 moins 1 audit  par  ministère tous le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mois, puis tous les 3 mois (juillet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audits lancés, en 6 vagues, portant sur plus de 150 Mds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ythme ambi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glob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iversité des services, procédures et fonctions, pour aborder les principaux enjeux de modernis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vagues sectorielles (par ministère) et transversales (achats, paye, archivage, bureaut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partena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choix des sujets relève de chaque ministre et du Premier mini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démarche permet aux ministères de s’approprier le diagnostic et d’être les acteurs de leur démarche de moder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phier le fonctionnement de l’Etat afin d’améliorer la qualité du service rendu aux Français tout en optimisant l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1AC37-FD2F-4512-BC2D-365AC9E2A3C6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ctions interministérielles et ministériell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vec l’appui de consultants du pri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Équipes d’audits mix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ropositions concrètes et quantifi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se en œuvre étudiée avec les parties pre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lans de transformation concrets sou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18 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Visée opérat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ublication des rapports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tableau de bord des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trans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Gains de productiv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méliorations de la qualité d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ncr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8D3A-3C6B-4494-B4EA-DCD8C0BCDB5F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nouveau contexte politi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ection du Président Sarkozy en mai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uvelle organisation gouvernementale avec 15 ministères seul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ministère des finances divisé en deux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e l’économie, des finances et de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l’emplo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u budget, des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comptes public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de la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éforme de l’Etat est pilotée par la présidence de la République avec le cabinet du Premier ministre et s’appuie sur le ministère du budget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ncement de la Révision Générale des Politiques Publiques (RGP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ègle du non remplacement des départs à la retraite à hauteur de 1 sur 2 dans la 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CDCF-978D-47FE-AFE8-F8E0CA17D4B5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0266-62DA-4B54-ACE2-C8802F6A1C86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Révision Générale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nc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évision générale des politiques publiques (RGPP) par le Président de la République Nicolas SARKOZ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’objectif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GPP : assurer le meilleur service public possible au moindre coût: réexamen des missions, économies budgétaires et réduction des effectif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exerci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mbitieux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 pilotage politique au plus haut niveau : un comité de suivi composé de grands décideurs publics, un  arbitrage  par le Président de la République dans un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conseil de la modernisation des politiques publiques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e démarche exhaustive : tous les champs de l’action publique, tous les ministères et les grands opérateurs de l’État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Des audits portant sur la légitimité et les objectifs de l’action de l’État, avant de proposer des réformes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RGPP s’inspir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onnes pratiques internationales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tamme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Canad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a conduit sa «revue des programmes» dès 1994, et a vu son déficit public passer de 5,9 % en 1992 à un excédent de 0,4 % en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9D4D-F0C5-4353-B6CF-2E516F1EB67A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s enjeux de la modernisation de l’Etat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4F17-810A-4117-B06C-7DE95832C3A4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71480"/>
            <a:ext cx="8261640" cy="5967000"/>
            <a:chOff x="880920" y="771480"/>
            <a:chExt cx="8261640" cy="5967000"/>
          </a:xfrm>
        </p:grpSpPr>
        <p:sp>
          <p:nvSpPr>
            <p:cNvPr id="201" name=""/>
            <p:cNvSpPr/>
            <p:nvPr/>
          </p:nvSpPr>
          <p:spPr>
            <a:xfrm>
              <a:off x="127944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 faisons-nou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s sont les besoins et les attentes collective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8152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fair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1492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 scénario de transformation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1424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33520"/>
              <a:ext cx="24973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ont les objectifs de la politique publiqu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assure-t-elle ? Que garantit-elle ? A quoi contribue-t-elle ? à quoi remédie-t-ell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sont les bénéficiaires visés et leurs caractéristiqu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8400"/>
              <a:ext cx="2751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cénarios d’évolution pour obtenir une politique publique plus efficace et moins coûteus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garantir une mise en œuvre efficac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9160"/>
              <a:ext cx="23288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les évolutions permettent d’optimiser les moyens de cette politique tout en assurant le respect de ses objectifs et l’amélioration du cadre de travail des agent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simplifier les structures et les procédur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2124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 financement de cette politique par l’Etat est-il justifié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doit payer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cofinancements sont envisageabl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43160"/>
              <a:ext cx="288900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sert-elle toujours l’intérêt public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s services répondent-ils aux besoins ? Quelles sont les nouvelles attentes ? Quelle nouvelle offre de services propose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les bénéficiaires ont-ils évolué ? Qui sont les bénéficiaires eff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présente t-elle des effets pervers ou des effets d’aubain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90060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pay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815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mment faire mieux et moins cher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6560"/>
              <a:ext cx="2160720" cy="6728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Faut-il continuer à la faire de la sorte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4256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4256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71760"/>
              <a:ext cx="1048320" cy="7200"/>
            </a:xfrm>
            <a:prstGeom prst="bentConnector3">
              <a:avLst>
                <a:gd name="adj1" fmla="val 52387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1424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9240"/>
              <a:ext cx="291924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maintenir cette politiqu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revoir les obj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doit-elle rendr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adapter les outils de la politique publique ? Faut-il faire évoluer le champ des bénéficiair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72520" y="5426280"/>
              <a:ext cx="375480" cy="2160"/>
            </a:xfrm>
            <a:prstGeom prst="bentConnector3">
              <a:avLst>
                <a:gd name="adj1" fmla="val 49616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1200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3544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816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33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80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924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200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310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9400"/>
              <a:ext cx="21844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a politique peut-elle être assurée plus efficacement par d’autres acteurs ou sous d’autres form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Est-ce à l’Etat de conduire cette politique ? A quel niveau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Avec quelles coopérations et articulations avec d’autres acteurs publics ou privé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grille d’analyse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F076-2CB5-4CCA-9AF4-9DDEBF604664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analyse porte sur des dépenses de différentes na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17520" y="1698480"/>
            <a:ext cx="7024680" cy="4105440"/>
            <a:chOff x="1217520" y="1698480"/>
            <a:chExt cx="7024680" cy="4105440"/>
          </a:xfrm>
        </p:grpSpPr>
        <p:sp>
          <p:nvSpPr>
            <p:cNvPr id="234" name=""/>
            <p:cNvSpPr/>
            <p:nvPr/>
          </p:nvSpPr>
          <p:spPr>
            <a:xfrm>
              <a:off x="1217520" y="1698480"/>
              <a:ext cx="3381480" cy="56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82080" y="1806480"/>
              <a:ext cx="219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pareil produ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4880" y="1700280"/>
              <a:ext cx="3383280" cy="56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8880" y="1806480"/>
              <a:ext cx="159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ven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7520" y="2397240"/>
              <a:ext cx="3381480" cy="1350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4960" y="245268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9280" y="2398680"/>
              <a:ext cx="3382920" cy="135108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8160" y="245412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2670120"/>
              <a:ext cx="33098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penses de personnel, dépenses de fonctionnement (y.c. subventions aux opérateu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vestissements « administratifs » (informatique, immobilier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27680" y="2743200"/>
              <a:ext cx="3311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d’interventions (transferts, subventions) investissements structurants (défense, équip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fis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17520" y="3938760"/>
              <a:ext cx="1631880" cy="183816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938760"/>
              <a:ext cx="16336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10320" y="3938760"/>
              <a:ext cx="16318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2440" y="3938760"/>
              <a:ext cx="1633320" cy="1863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860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 d’app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732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opérationnel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27680" y="4003560"/>
              <a:ext cx="1503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discrétion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7680" y="4003560"/>
              <a:ext cx="1360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à guichet ouv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5680" y="4508640"/>
              <a:ext cx="150984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tions cent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outien des politiques publ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Fonctions support transver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56040" y="4508640"/>
              <a:ext cx="15094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Relations directes avec l’us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livrance d’un service public, d’une pre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2768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 de subventionnement class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ventuellement contractualis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640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s de prestations, de transferts dir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Sur des critères ouvrant un dr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45BA-EA80-4CC0-B6DB-1164ED186E02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’organisation des travau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6096960"/>
            <a:chOff x="295200" y="981000"/>
            <a:chExt cx="8739360" cy="6096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58719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4372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équipes d’audit ministériel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chef d’équipe, membres de corps d’inspection, consultan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14876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équipes d’audit sur des grandes politiques d’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Méthode spécifique – rattachement ultérieur à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4372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groupes de travail interministéri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Pilotage autonome, différent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625120"/>
              <a:ext cx="2662200" cy="418320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tion extérieure de l’E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ide publique au 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griculture et pê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ulture et communication et Services du Premier minist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ologie, développement et 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col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seaux financ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anté – solidarités – s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migration et inté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ntéri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utre-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625120"/>
              <a:ext cx="2662200" cy="373536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ami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ssurance-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iques de solidarité et de lutte contre la pauvre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lle et lo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mploi et formation professionn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veloppement des entrepri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625120"/>
              <a:ext cx="2662200" cy="25387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s ressourc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sation de l’administration territor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tions entre l’Etat et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mplification des procédures inter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240160"/>
              <a:ext cx="2662200" cy="11188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 Un chantier spécifique : la réduction de la charge administrative sur les entreprises et sur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50640" y="5109120"/>
              <a:ext cx="450360" cy="2951640"/>
            </a:xfrm>
            <a:prstGeom prst="bentConnector3">
              <a:avLst>
                <a:gd name="adj1" fmla="val -59600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25560" y="3632760"/>
              <a:ext cx="451800" cy="5902920"/>
            </a:xfrm>
            <a:prstGeom prst="bentConnector3">
              <a:avLst>
                <a:gd name="adj1" fmla="val -59409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10A2-2946-4FD3-8CE3-4608B814292F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Lancement/ cad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1er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Travaux d'analyse et scénarios intermédi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2nd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Scénarios définitif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tions de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uillet-aoû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eptembre-décembre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anvier-ma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ncement de la démarche par le Premier mini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place des équipes d’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  2007, chaque ministre passe devant le Comité de suivi pour examiner des scenarios d’évolution des politiques de son minist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 premier Conseil de la modernisation des politiques publiques examine l’état d’avancement des travaux en décembre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uxième passage devant le Comité de suivi, afin d’approfondir les scenarios, d’évaluer leurs impacts et d’étudier leurs modalités d’accompag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uin 2008, le Conseil de la modernisation des politiques publiques est saisi des scénarios stratégiques de tous les ministères et adopte les principales dé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4483080"/>
            <a:ext cx="1629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œuvre des réformes décidées sur la période 2009-2011, dans un cadre budgétaire pluriann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sation de l’ensemble des leviers de moder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calendrier de la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93080" y="208080"/>
            <a:ext cx="1908000" cy="106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0315-43BE-4C3F-88D8-0AECAA2F4EA3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350 mesures de réforme annoncées en juin 200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Des économ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Une économie de 7,7 Mds€ sur 4 ans, soit environ 5 % d’économies sur le périmètre étudi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réduction des effectifs : 50 % de non remplacement des départs à la retraite : 30.600 suppressions en budget 200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modernisation des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Conséquences des fusions de plusieurs ministèr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éduction de 50 directions d’administration centrale (sur 200) (Finances: une direction générale des finances publiques pour s’occuper de l’impô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réforme de l’Etat territori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serrement des implantations territoriales : défense – justice – sant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niveau régional est de droit commun pour la programmation des politiques publiques + autorité hiérarchique du préfet de région sur le préfet de département + un nombre réduit de directions régionales : 8 directions au lieu de 3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département : l’exécution des politiques publiques : resserrement autour du Préfet avec 3 directions interministérielles nouvell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F279-F648-4A98-860A-F59FDCA66A1C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s chantiers transver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 – collectivités local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larifier les compétences à l’issue des lois de décentral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lléger et encadrer les normes que l’Etat fait peser sur les collectiv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eilleur respect de la contrainte globale des financ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ers une réforme des niveaux d’administrations en 2009 ?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mmunes/communautés de communes/départements/rég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 simplification des procédures internes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réation « d’agences de service public » donnant au sein de l’Etat une plus grande souplesse de gestion à des structures autonom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guler l’inflation normative (étude d’impact préalabl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implifier des procédures (d’organisation des ministères – de passation des marchés – de consultations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former le contrôle de la dépense publique (expérimenter un comité d’engagement à la place du visa préalable des actes du contrôle financier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D857-13B9-4978-8D08-C4F3D6173749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1522080"/>
            <a:ext cx="79200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gouvernance des finances publi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Un budget pluriannuel pour l’Etat (2009-2011) avec une loi de programmation des finances publiques (votée en décembre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es règles d’adoption plus strictes pour les dépenses fisca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rationalisation et la mutualisation des fonctions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Mise en place d’un opérateur national de pay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Centralisation de la politique immobili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duction de «l’impôt papier» (allégement des charges pesant sur les entreprise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éveloppement de l’administration électronique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forme de l’organisation des achats (une agence nationale des achats mutualisé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Amélioration de l’accueil dans les services publics (accueil multicanal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’accompagnement des restructuration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ar une politique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ssources humaine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daptée : primes de mobilité et indemnités de départ volon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03D1-EFF9-4B50-AD8B-E1D165D15EBD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Vers une modification du statut de la fonction publique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ivre blanc de 40 propositions pour modernisation la fonction publique en 2008 pour un projet de  loi en 2009,  don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organiser le statut de corps en créant  7 grandes filières métiers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dministration générale / finances / sociale / éducation recherche / culturelle / technique / sécurité (hors militaires et magistr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éfinir la place du contrat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ntrats de droit public pour 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mploi de souveraineté  et des contrats de droit privé pour les autres  autres emploi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ixer une part d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munér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 mérit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une composante liée au grade (ancienneté) + une composante liée à l’emploi (part fixe et part variable liée aux résult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</a:t>
            </a: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6067-C2C1-4823-81EA-7DAAA6CFBDA7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situation des finances publiques (déficit et det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démographie, l’attractivité de la fonction pub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s évolutions de la société, les attentes des citoy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compétitivité globale du pays dans une économie mondia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’articulation des différents niveaux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tat, Collectivités locales, Union européen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3414600"/>
            <a:ext cx="174600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é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État doit faire face à des défis considérab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C095-654D-492B-8F60-59617784C89B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Contexte et périmètre de la réforme de l’Et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exte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une situation de finances publiques difficile: dette de 63,9% du PIB et déficit de 2,7% du PIB en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érimètr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 L’Etat n’est qu’une partie de la sphère publique, même les citoyens s’adressent toujours au Gouvernemen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difficulté : des politiques publiques définies par l’Etat mais dont certaines sont gérées par des entités autonom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+ organismes di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4115160"/>
              <a:ext cx="187020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 loc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écurité soc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991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340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207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444 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741E-C6D2-4126-ACDE-A8927DA8BDC1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éléments du budget de l’Etat franç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natures de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43%  de dépenses de personn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2% de dépenses d’interven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6% de charge de la det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4% de fonctionnement coura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5% d’invest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1,5% Education nation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,5% Missions sociales-emploi-san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 % Déf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8,6% Recherche et enseignement supérie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eff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2,2 M de fonctionnaires (5 M au total avec les collectivités locales et les hôpitaux soit 20% des actifs)  dont la moitié sont des  enseignants financés sur le budget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77B4-1CFC-479D-9765-83AE943BAC6A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leviers de la modernisation de l’É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1690200"/>
            <a:ext cx="7613640" cy="4258080"/>
            <a:chOff x="900000" y="1690200"/>
            <a:chExt cx="7613640" cy="4258080"/>
          </a:xfrm>
        </p:grpSpPr>
        <p:sp>
          <p:nvSpPr>
            <p:cNvPr id="123" name=""/>
            <p:cNvSpPr/>
            <p:nvPr/>
          </p:nvSpPr>
          <p:spPr>
            <a:xfrm>
              <a:off x="900000" y="1758960"/>
              <a:ext cx="761364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73360" y="1690200"/>
              <a:ext cx="6653160" cy="40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ois leviers «classiques» essenti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nouvelle gestion publique (la 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simplification et l’exigence de qual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 développement de l’administration électron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0360" y="2984400"/>
              <a:ext cx="82404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0360" y="3776760"/>
              <a:ext cx="82404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0360" y="4640400"/>
              <a:ext cx="82404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C288-90BC-434A-A86A-9081C26E6938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gestion publique promue par la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e réflexion sur le sens de l’ac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formalisation de la stratégie et des objectif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ber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globalisation des enveloppes de crédits, déconcentration des décisions de gestion pour trouver des gains de performance au plus près du terrai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sponsabili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logique de performance (objectifs et indicateurs), outils de pilotage (système d’information budgétaire et comptable, comptabilité d’exercice, contrôle de gestion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3213000"/>
            <a:ext cx="8128080" cy="3475080"/>
            <a:chOff x="755640" y="3213000"/>
            <a:chExt cx="8128080" cy="3475080"/>
          </a:xfrm>
        </p:grpSpPr>
        <p:sp>
          <p:nvSpPr>
            <p:cNvPr id="131" name=""/>
            <p:cNvSpPr/>
            <p:nvPr/>
          </p:nvSpPr>
          <p:spPr>
            <a:xfrm>
              <a:off x="3564000" y="4164120"/>
              <a:ext cx="2160360" cy="9111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924360"/>
              <a:ext cx="2400480" cy="139068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Des ac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438800"/>
              <a:ext cx="2171880" cy="658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écisément identifi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oins nombreu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lus respons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2720" y="4394160"/>
              <a:ext cx="1487520" cy="455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apacité d’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7640" y="4237200"/>
              <a:ext cx="743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0720" y="3573360"/>
              <a:ext cx="2403720" cy="311472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703840" y="4487400"/>
              <a:ext cx="48420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0080" y="3616200"/>
              <a:ext cx="2114640" cy="30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gains d'efficacité au plus près des activités des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équipes motivées et mobilisées vers les résultats à atteind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e meilleure capacité à adapter l'action en fonction des résultats et à résoudre les problè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37440" y="3772080"/>
              <a:ext cx="299880" cy="3250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7440" y="4781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7440" y="6005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48000" y="5148360"/>
              <a:ext cx="2733840" cy="65880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 pré requis pour construire un système de responsabilité orienté vers les résul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1520" y="3213000"/>
              <a:ext cx="266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Les bénéfices attend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3BBD-2060-47D6-8E24-529C6089FEFF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2. La qualité et la simpl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lois de simplific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nnuelles (pour les particuliers et les entrepris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utte contre l’inflation norm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llaboration avec le Secrétariat général du Gouvernement (SGG) : les études d’imp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/labellisation des services accueillant du 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généralisation en 2006 des tests de qualité, évolution de la charte Marianne vers un référentiel de certification/labellisation qual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mesure et 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duction de la charge administr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esant sur les usagers, particuliers et entreprises : mise en place d’un indicateur de complexité des démarches administrativ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éduction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ionalisation des commissions administrativ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8 juin 2006 conduisant à ne créer les commissions que pour une durée de vie limité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AEC1-D792-410D-AF08-94827D75A175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Le développement de l’administration électroniq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arantir les échanges électroniqu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’ordonnance du 8 décembre 2005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relative aux échanges électroniques, pose les bases juridiques nécessaires à l’accélération et à la généralisation de l’administration électronique (validité juridique des courriers électroniques, signature électronique des actes administratifs, espace de stockag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ser les investissements pour éviter leur redond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e schéma directeur de l’administration électron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organise le pilotage interministériel du développement de l’administration électronique, en érigeant comme règle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mutualisa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l’efficacité des services (47 initiatives portées par un ministère chef de fil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laborer les référentiels généraux d’interopérabilité et de sécur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l s’agit pour l’Etat de définir u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rpus de règl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qui combine à la fois les spécificités métiers des administrations, le respect de la confidentialité des données, la fluidité des échanges de données numériques, la sécurité des systèmes d’informa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024C-2C50-4D23-886F-C96AFDCBF96F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2:50:46Z</dcterms:modified>
  <cp:revision>555</cp:revision>
  <dc:subject/>
  <dc:title>Présentation PowerPoint</dc:title>
</cp:coreProperties>
</file>