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1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4D0F7-4072-4058-ADB1-6EF392DDA2F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F498E-C5E5-4846-9BD0-F8EF0BAAEE5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8ED2B-FE2B-4991-A437-2D9B9A9A39D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4A00F-DA7E-4978-9F54-35FF79E7B2E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CFA5C4-51BE-4067-ACF2-9524FBE7795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46C87-B9D5-429E-8367-4A47EDA92D6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7E9E3-F45E-4F12-A57E-DCB3F470688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C9C1C-97D3-424E-AD19-B90A3C4F3FA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F46F9-8B5B-49A8-8711-60F714980FD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16B1F-6C60-4BE5-8F0C-6B9B0D737DF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7920" y="4716000"/>
            <a:ext cx="49816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C34A0-B0C2-4334-BDC5-AD060B80E89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C171D-1977-4B19-8D66-D9E1232F257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30D19-4F77-49AB-A412-065B5C4CC20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D0234-FE3F-4EEC-AAB6-FDDC59AB2A9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56EA1-F3AE-4F7C-9E89-EA710B6F8B7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FABA0-5984-420B-8A7F-F75D314E1EE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734EA-59CA-443C-B95A-4428B45E191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21406-8D77-4F71-92E3-01019AF6BD7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460D4-A164-40CE-989C-EFCC171919F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080E7-9E07-42E4-9D39-A516CF3C037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19A29-5149-4909-94ED-333C5BD63DF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19E46-9FAA-41BF-B151-361D882052E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F6163-0BFF-4070-8BC5-1308D343E32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11160"/>
            <a:ext cx="2946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-1440" y="11160"/>
            <a:ext cx="2946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52720" y="468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-1440" y="468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27240" y="1058760"/>
            <a:ext cx="4413240" cy="33116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20480" y="5241960"/>
            <a:ext cx="59324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E73A3-24AC-4C23-8722-F27C24CA688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29E42-9F70-4350-9F26-BD65E93C46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42389-EEE4-4561-8D8B-E245B0DF52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EA061-AAF8-48A8-9B00-2A3EBB41B6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FC8A0-8A85-4A84-B116-63620E3971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41128-DD23-4C4F-BCA8-4848D2123F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087D3-D83B-4640-A6F8-1CCD60D521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E6589-AE8D-4AC7-9BC5-6B01806D4F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1F959-E149-429C-BD3A-1EB0C8B9E2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4C864-6E67-4D15-8FB7-5029059147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370F4-77BB-4EE0-A5FB-F8AC8FCD51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DA7D5-5407-4B48-B71F-4B4A6445AF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AA6DD-D0BD-4F0F-80A4-957F39E83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A8E514-949B-467B-A2CA-1581365232F4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412640"/>
            <a:ext cx="7921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cle de conférences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La réforme budgétaire</a:t>
            </a:r>
            <a:br>
              <a:rPr sz="3800"/>
            </a:br>
            <a:br>
              <a:rPr sz="34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ère du Budget, des Comptes publics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t de la Fonction publique - Par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50480" y="60148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Varsovie, 11 déc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2. Un échange entre liberté et responsabilité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1663560"/>
            <a:ext cx="273528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Liberté accru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acte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 l’administr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3786120"/>
            <a:ext cx="36003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Globalisation des crédits par program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Fongibilité des crédits par nature, mais avec un plafond de masse salaria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Liberté de redéploiement des effectifs dans un plafond d’emplois exprimé en équivalent temps ple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8560" y="1663560"/>
            <a:ext cx="279252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Plus gran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Responsabilit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gestionnai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 program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3786120"/>
            <a:ext cx="3382920" cy="24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’engager sur des objectifs et rendre compte des résulta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Rendre compte de l’utilisation des crédits par nature et par finalité de la dépen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Plus d’information dans l’exécution du budget en engagements et en pai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C8851-2D49-4A54-948C-B283A7AC1BC3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1314360" y="836640"/>
            <a:ext cx="7245360" cy="5956200"/>
            <a:chOff x="1314360" y="836640"/>
            <a:chExt cx="7245360" cy="595620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1314360" y="836640"/>
              <a:ext cx="7245360" cy="595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3989160" y="4480920"/>
              <a:ext cx="150588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a40079"/>
                  </a:solidFill>
                  <a:latin typeface="Arial"/>
                </a:rPr>
                <a:t>FONGIBILITÉ</a:t>
              </a:r>
              <a:r>
                <a:rPr b="0" lang="pl-PL" sz="1600" spc="-1" strike="noStrike">
                  <a:solidFill>
                    <a:srgbClr val="a40079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238720" y="2963880"/>
              <a:ext cx="1960560" cy="1432080"/>
              <a:chOff x="5238720" y="2963880"/>
              <a:chExt cx="1960560" cy="1432080"/>
            </a:xfrm>
          </p:grpSpPr>
          <p:sp>
            <p:nvSpPr>
              <p:cNvPr id="182" name=""/>
              <p:cNvSpPr/>
              <p:nvPr/>
            </p:nvSpPr>
            <p:spPr>
              <a:xfrm>
                <a:off x="5425920" y="3681360"/>
                <a:ext cx="1773360" cy="714600"/>
              </a:xfrm>
              <a:custGeom>
                <a:avLst/>
                <a:gdLst>
                  <a:gd name="textAreaLeft" fmla="*/ 310320 w 1773360"/>
                  <a:gd name="textAreaRight" fmla="*/ 1285920 w 1773360"/>
                  <a:gd name="textAreaTop" fmla="*/ 95760 h 714600"/>
                  <a:gd name="textAreaBottom" fmla="*/ 618840 h 71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5238720" y="2963880"/>
                <a:ext cx="1773360" cy="716040"/>
              </a:xfrm>
              <a:custGeom>
                <a:avLst/>
                <a:gdLst>
                  <a:gd name="textAreaLeft" fmla="*/ 310320 w 1773360"/>
                  <a:gd name="textAreaRight" fmla="*/ 1285920 w 1773360"/>
                  <a:gd name="textAreaTop" fmla="*/ 95760 h 716040"/>
                  <a:gd name="textAreaBottom" fmla="*/ 620280 h 71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106880" y="5616720"/>
              <a:ext cx="1357200" cy="357120"/>
            </a:xfrm>
            <a:prstGeom prst="rightArrow">
              <a:avLst>
                <a:gd name="adj1" fmla="val 50000"/>
                <a:gd name="adj2" fmla="val 95010"/>
              </a:avLst>
            </a:pr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029840" y="4971960"/>
              <a:ext cx="1357560" cy="357120"/>
            </a:xfrm>
            <a:prstGeom prst="rightArrow">
              <a:avLst>
                <a:gd name="adj1" fmla="val 50000"/>
                <a:gd name="adj2" fmla="val 95035"/>
              </a:avLst>
            </a:pr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655800" y="3179880"/>
              <a:ext cx="903600" cy="786960"/>
              <a:chOff x="3655800" y="3179880"/>
              <a:chExt cx="903600" cy="786960"/>
            </a:xfrm>
          </p:grpSpPr>
          <p:sp>
            <p:nvSpPr>
              <p:cNvPr id="187" name=""/>
              <p:cNvSpPr/>
              <p:nvPr/>
            </p:nvSpPr>
            <p:spPr>
              <a:xfrm>
                <a:off x="3741840" y="3574080"/>
                <a:ext cx="817560" cy="392760"/>
              </a:xfrm>
              <a:custGeom>
                <a:avLst/>
                <a:gdLst>
                  <a:gd name="textAreaLeft" fmla="*/ 142920 w 817560"/>
                  <a:gd name="textAreaRight" fmla="*/ 592920 w 817560"/>
                  <a:gd name="textAreaTop" fmla="*/ 52560 h 392760"/>
                  <a:gd name="textAreaBottom" fmla="*/ 340200 h 39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3655440" y="3179880"/>
                <a:ext cx="817560" cy="394200"/>
              </a:xfrm>
              <a:custGeom>
                <a:avLst/>
                <a:gdLst>
                  <a:gd name="textAreaLeft" fmla="*/ 142560 w 817560"/>
                  <a:gd name="textAreaRight" fmla="*/ 592560 w 817560"/>
                  <a:gd name="textAreaTop" fmla="*/ 52560 h 394200"/>
                  <a:gd name="textAreaBottom" fmla="*/ 341640 h 39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4560840" y="4900680"/>
              <a:ext cx="525600" cy="4284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559040" y="4900680"/>
              <a:ext cx="453960" cy="4284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927920" cy="60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fongibilité au sein du program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91EA3-2F18-447D-A18C-0DAF2A9D1257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3. Un budget orienté vers les résultats : la recherche de la PERFORM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déterminés dans le cadre des moyens alloués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≠ budgétisation par objectif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Des objectifs d’amélioration de l’efficacité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’engager sur les résultats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le projet annuel de performance (LFI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endre compte des résultats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le rapport annuel de performance (LR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Même présentation, même structure que le projet annuel de performance afin de faciliter la comparaison prévisions/réalis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Vote en première lecture sur la loi de règlement n-1 avant l’examen du PLF n+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3D712-E94C-4CF0-ABCD-2FF8B4F98B5A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sens de la  performanc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guide méthodologiqu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artagé entre le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ouvernement, le Parlement, la Cour des Comptes et le CI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sélection d’objectifs et d’indicateurs de résultats représentative des priorités du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tratégi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expliquer la cohéren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bjectif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répondre aux attentes du citoyen,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 l’usager et du contribuable : un choix politiqu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ndic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mesurer la réalisation des objectifs retenu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et indicateur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clairent les politiques et sont présentés au Parlement dans l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AP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dont il est rendu compte dans l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tilisés et déclinés dans la gestion interne et donnan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sens à l’activité de chaque ag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329600" y="114480"/>
            <a:ext cx="141912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8CA3A-A2AA-4F2A-9759-29CC4B4FFF47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dimensions de la perform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ois dimensions de la performance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efficacité socio-économiqu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u citoyen) : les effets attendus des politiqu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qualité du service rendu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e l’usager) : la qualité exigé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efficacité de la gest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u contribuable) : l’optimisation des moye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ndic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mesure des résultats pour chaque objectif en fixant des cibles (niveaux de performance obtenus et attendus)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d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erforman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non d’activité ou de moye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mputabl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ux responsabl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 contrôle permanent exercé par un organisme public indépendant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mité interministériel d’audit des programmes (CIA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9E4F2-A920-4E0C-A537-F6FC09D5442D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pilotage par la performanc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27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5 objectifs par programme, 2 indicateurs par objectif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500 objectifs – 1.000 indicateurs en 2009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97840" y="2492280"/>
            <a:ext cx="7696800" cy="3346560"/>
            <a:chOff x="897840" y="2492280"/>
            <a:chExt cx="7696800" cy="3346560"/>
          </a:xfrm>
        </p:grpSpPr>
        <p:sp>
          <p:nvSpPr>
            <p:cNvPr id="202" name=""/>
            <p:cNvSpPr/>
            <p:nvPr/>
          </p:nvSpPr>
          <p:spPr>
            <a:xfrm>
              <a:off x="900000" y="507708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900000" y="4009320"/>
              <a:ext cx="7694640" cy="1080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00000" y="583884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900000" y="3171240"/>
              <a:ext cx="7694640" cy="1044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98560" y="2644560"/>
              <a:ext cx="155916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oint de v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98400" y="2644560"/>
              <a:ext cx="17312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Axe d’analy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27560" y="2492280"/>
              <a:ext cx="13334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Exemp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d’object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09720" y="2492280"/>
              <a:ext cx="14479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Exemp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d’indicate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97840" y="3258720"/>
              <a:ext cx="9172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Citoy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9640" y="4020480"/>
              <a:ext cx="87912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Us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98920" y="5077080"/>
              <a:ext cx="14356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Contribu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99480" y="3228480"/>
              <a:ext cx="159264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fficacité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ocio-économ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98400" y="4042800"/>
              <a:ext cx="1536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qualité du 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nd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99840" y="5110200"/>
              <a:ext cx="1158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fficacité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 la ges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27920" y="3206520"/>
              <a:ext cx="17722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croître l’inser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ofessionnell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s jeunes diplômé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09360" y="3173040"/>
              <a:ext cx="22280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% de diplômés aya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n emploi 6 mois aprè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l’obtention de leur diplô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27920" y="4042800"/>
              <a:ext cx="1734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célérer l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cisions judici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28280" y="5110200"/>
              <a:ext cx="164448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éduire le coût d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estion de l’impô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99640" y="4010760"/>
              <a:ext cx="204228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urée moyenne d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cisions rendues 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ncienneté moyenn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s jugements en cou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07920" y="5077080"/>
              <a:ext cx="204984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oût par redevable d’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pô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886B9-6623-48F2-B8D8-C70FEB129A3C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4. La transparence des informa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penses de personnel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n coût complet intégrant les cotisations patronales + l’ensemble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mploi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émunérées par l’Etat exprimés en « équivalents temps plein travaillés »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P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justification au premier euro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s crédits (éléments physico-financier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renforcement du principe d’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iversa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budgé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présent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ér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emplois et crédi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généralis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utorisations d’Engagement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à toutes le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comptabilité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analyse du coût des action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répartissant les fonctions support et les services polyvalent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CD52A-0C55-40FF-97FE-8B7DA268ACB4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5. La nouvelle comptabilité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Les outils de mesure de la situation financière de l’Etat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9279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a comptabilité élevée au niveau d’une loi organique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A coté de la comptabilité budgétaire en caisse, introduction de la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comptabilité d’exercice, en droits constatés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pour assurer la transparence de la situation financière de l’Etat (bilan +  hors-bilan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es comptes réguliers, sincères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et donnant une image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fidèl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de son patrimoine et de sa situation financiè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exigence de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qualité comptabl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confiée aux comptables en lien avec les ordonnateur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33EAF-D6B5-4171-9BFD-E7B5A91293BA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ne nouvelle comptabilité à trois dimens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90520" indent="-29052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comptabilité budgétair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ondée sur la comptabilisation des recettes et des dépenses budgétaires (encaissements/paiemen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ériode complémentaire comptable de 20 jour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double suivi AE/C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comptabilité d’exercic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 fondée sur la constatation des droits et obligations, proche des règles de comptabilité des entreprises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s opérations sont prises en compte au titre de l’exercice auquel elles se rattachent, indépendamment de leur date de paiement ou d’encaisse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analyse des coûts des action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 au service du gestionnaire (cf. CAC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90600" y="173160"/>
            <a:ext cx="6639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86BC4-F752-4EEA-B9F6-617E1AF521D9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mise en œuvre de la nouvelle comptabilit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définition du cadre conceptuel : les normes comptabl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3 normes établis par le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comité des norm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sur les états financiers, les charges, les immobilisations, les dettes, etc.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21 mai 2004 :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approbation par arrêté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déclinaison des norm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plan de compt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par nature (PC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recueil des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structions comptabl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construction du bila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recensement et la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valorisation du parc immobilier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coût du marché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autres immobilisation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corporelles et les stock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ification annuel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ar la Cour des Comptes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comptes 2006 et 2007 certifiés par la Cour des Compt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vec 13 puis 12 réserves (dont 2 générales sur les systèmes d’information et le contrôle intern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CF648-8405-4B81-8708-7A16DE198A9B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loi organique du 1</a:t>
            </a:r>
            <a:r>
              <a:rPr b="1" lang="pl-PL" sz="2600" spc="-1" strike="noStrike" baseline="30000">
                <a:solidFill>
                  <a:srgbClr val="ffffff"/>
                </a:solidFill>
                <a:latin typeface="Arial"/>
              </a:rPr>
              <a:t>er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 août 2001 relative aux lois de finances ( LOLF) en Fr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7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nouvelle constitution financière pour l’Etat 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initiative parlementai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 accord politique trans-partisa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 consensus avec le gouverne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51A6A-1F6E-4CFC-BE07-4962486CF949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6. L’accroissement du rôle du Parleme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budg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lus lisib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discussion et le vote par grandes politiques publiques (mission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discussion des crédits au premier euro, des emplois par ministè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e information enrichie pour contrôler la dépense (PAP – annexes – RA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déba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tentiellement plus rich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élargissement du droit d’amendement : redéploiements entre programmes d’une même miss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cour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exécu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un accès renforcé à l’information pour les commissions des finances (actes réglementair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pouvoirs d’investigations 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audi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enforcés (recours à la Cour des Compt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’importance nouvelle d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oi de règl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qui intègre les comptes et les rapports annuels de performan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8DFE1-FB86-48F3-93AF-FF7DB1CF3C96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295280" y="1600200"/>
            <a:ext cx="3581640" cy="4952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Jusqu'e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71600" y="5054400"/>
            <a:ext cx="335268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94% des crédits sont reconduit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quasi-automatiquement d'une anné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ur l'autre (services votés), sans remise en caus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'essentiel des débats porte sur seulement 6% du budget géné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5057280"/>
            <a:ext cx="327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100% des crédits sont discuté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u Parlement par miss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1600200"/>
            <a:ext cx="3581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Depuis le budget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667480" y="2577960"/>
            <a:ext cx="2333520" cy="23241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776240" y="2575080"/>
            <a:ext cx="2419560" cy="2377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733400" y="2819520"/>
            <a:ext cx="533520" cy="228600"/>
          </a:xfrm>
          <a:custGeom>
            <a:avLst/>
            <a:gdLst/>
            <a:ahLst/>
            <a:rect l="l" t="t" r="r" b="b"/>
            <a:pathLst>
              <a:path w="288" h="96">
                <a:moveTo>
                  <a:pt x="192" y="48"/>
                </a:moveTo>
                <a:lnTo>
                  <a:pt x="288" y="0"/>
                </a:lnTo>
                <a:lnTo>
                  <a:pt x="0" y="0"/>
                </a:lnTo>
                <a:lnTo>
                  <a:pt x="0" y="96"/>
                </a:lnTo>
                <a:lnTo>
                  <a:pt x="192" y="96"/>
                </a:lnTo>
                <a:lnTo>
                  <a:pt x="288" y="0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81480" y="2581200"/>
            <a:ext cx="1353960" cy="28584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0"/>
                </a:moveTo>
                <a:lnTo>
                  <a:pt x="48" y="96"/>
                </a:lnTo>
                <a:lnTo>
                  <a:pt x="336" y="96"/>
                </a:lnTo>
                <a:lnTo>
                  <a:pt x="432" y="192"/>
                </a:lnTo>
                <a:lnTo>
                  <a:pt x="912" y="192"/>
                </a:lnTo>
                <a:lnTo>
                  <a:pt x="912" y="0"/>
                </a:lnTo>
                <a:lnTo>
                  <a:pt x="0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2057400"/>
            <a:ext cx="16002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esures nouvelles par ministèr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7 votes en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2346480"/>
            <a:ext cx="1219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rvices votés : 1 seul v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15200" y="2438280"/>
            <a:ext cx="76212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0" y="96"/>
                </a:moveTo>
                <a:lnTo>
                  <a:pt x="336" y="288"/>
                </a:lnTo>
                <a:lnTo>
                  <a:pt x="480" y="288"/>
                </a:lnTo>
                <a:lnTo>
                  <a:pt x="480" y="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96080" y="2517840"/>
            <a:ext cx="10670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7 missions, 47 v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n débat budgétaire enrichi et modernis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83454-8A78-45A7-AC72-E70202E49DD3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7. Un nouveau système de responsabilit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pilotage par le responsable de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près arbitrage mené par le directeur des affaires financières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dispose des crédits et les répartit pour les besoins de la gestion interne,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s’engage sur la performance devant le Parlement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ojet annuel de performance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rend compte devant le Parlement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pport annuel</a:t>
            </a:r>
            <a:br>
              <a:rPr sz="2000"/>
            </a:b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 performanc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responsables de programme qui peuvent piloter plusieurs directio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e respons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«managériale», une rémunération au mérit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8E3B4-576F-48AE-A086-41DF9FD0A76B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Une déconcentration de la gestion budgéta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s programmes nationaux se déclinent en</a:t>
            </a:r>
            <a:r>
              <a:rPr b="0" lang="pl-P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budget opérationnel de programme (BOP)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sur un périmètre ou un territoir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plan d’action avec des objectifs et indicateurs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 performance adaptés aux enjeux opérationnels des services déconcentré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budget prévisionnel, détaillé par finalité et nature de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schéma d’organisation financiè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gestion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sponsable de budget opérationnel de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l dispose d’un budget opérationnel de programme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l s’engage et rend compte dans le cadre du dialogue de gestion au responsable de programme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44B3E-49C3-4712-9AD1-1B17D1BB4E19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9. L’allégement des contrôles du ministère des financ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contrôle budgétaire de souten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décret du 27/01/05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bandon du contrôle de régularité confié aux gestionnair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visa amont sur la programmation budgétaire initia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cours de gestion : une modularité des contrôles avec un contrôle a priori en fonction des enjeux et des risqu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comptes-rendus de gestion trimestriels par les gestionnair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contrôle comptable du paiement de la dépense allég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hiérarchisé ou partenaria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ais 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ntrôle interne comptab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enforcé pour garantir la «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qualité comptab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72864-962A-474D-AC8C-3349029DB03C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 développement des contrôles exercés par les ministères gestionnai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développement du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contrôle de gestion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«améliorer le rapport entre les moyens engagés et l’activité ou bien avec les résultats obtenus»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contrôle de gestion ministériel et par programme, et au niveau loca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renforcement du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contrôle intern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onséquence de la réorganisation des ministères et de l’allégement des contrôles financier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se en place d’un contrôle interne comptab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développement de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l’audit intern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Activité externe menée par des équipes dédiées (inspections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73BB2-24C9-4C6A-B92E-1784056A5F96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0. La mise en place de nouveaux systèmes d’information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système provisoire dès 2006 mais peu satisfaisa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nouveau progiciel de gestion intégré (ERP) en construction (CHORUS) couvrant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ensemble des administrations centrales et déconcentré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ensemble des applications de dépenses, de recettes et toutes les comptabilit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es infocentres de données permettant des restitut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levier de modernisation et d’amélioration de la productivité, précédé d’une «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éingénierie des processus financier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» (23.000 licences au lieu de 45.000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déploiement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rogressif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prévu entre 2009 et 2011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accompagnement indispensable dans le déploie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5B866-7210-4D51-9179-D780FAFA9AE0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En conclusion: le temps long de la réforme </a:t>
            </a:r>
            <a:br>
              <a:rPr sz="2600"/>
            </a:b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principales étapes de la réforme budgétaire : 2001-2007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2421000"/>
            <a:ext cx="8351640" cy="1440"/>
          </a:xfrm>
          <a:prstGeom prst="line">
            <a:avLst/>
          </a:prstGeom>
          <a:ln cap="sq" w="76320">
            <a:solidFill>
              <a:srgbClr val="00ad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656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0328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6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10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00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76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916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93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831708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027080" y="2490480"/>
            <a:ext cx="180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9440" y="3141720"/>
            <a:ext cx="131292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e par 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78200" y="3149640"/>
            <a:ext cx="18730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éation de la  Direction de la réforme budgé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80000" y="3141720"/>
            <a:ext cx="1800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jet de loi de finances en mode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ectifs de performance / indicateurs d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80000" y="3135240"/>
            <a:ext cx="19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ort Lambert/Migaud sur la mise en œuvre de la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 : 1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r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i de finances en mode LOLF &amp; débat parlemen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451640" y="3135240"/>
            <a:ext cx="169236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er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apports annuels de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tification des comptes par la Cour des Comp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5963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37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5589720"/>
            <a:ext cx="26672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r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ruire les fo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73400" y="5589720"/>
            <a:ext cx="1722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m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r>
              <a:rPr b="0" lang="pl-PL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é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59640" y="5589720"/>
            <a:ext cx="1890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m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r>
              <a:rPr b="0" lang="pl-PL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mise en œuv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201924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475452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7418160" y="41734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2360" y="2492280"/>
            <a:ext cx="252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uvelle agence de gestion des systèmes d’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0C0B7-6866-4D2B-A882-D93632F98E94}" type="slidenum">
              <a:t>27</a:t>
            </a:fld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pilotage de la réfor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pilotage assuré par l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inistère des financ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création d’un structure dédiée: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la direction de la réforme budgétair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, direction de projet  créée pour une durée limitée: 50 cadres de haut niveau aidé par des consultants pour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éfinir les nouvelles règles budgétaires et comptables (en associant les directions du budget et de la comptabilité publiqu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ssurer le pilotage interministériel de la réforme (comité des directeurs financiers des ministères, forum des responsables de  programme, animation de comités locaux de la réforme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feuille de rout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, un calendrier, des jalon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consultation permanente des commissions de finances du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arleme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B53CE-BD63-41C0-8809-6CA2547925FE}" type="slidenum">
              <a:t>28</a:t>
            </a:fld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enseignements de la mise en œuv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nécessité d’une implication au plus haut niveau (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soutien politiqu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formation des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anagers public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à la culture de responsabilité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formatio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indispensable dans les ministères pour tous les agents quelque soit leur niveau  (formation de formateurs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e recours a des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expérimentation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pour s’approprier la réform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communicatio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externe et et intern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nécessité d’une mise sous tension par l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calendrier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F061C-A79E-40B2-BFD5-FA2AA82FA151}" type="slidenum">
              <a:t>29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LOLF doit répondre aux attentes …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17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élu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3933720"/>
            <a:ext cx="28065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isibilité budgétaire accrue et transparence dans l’exé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Meilleure affectation des ressources aux politiques publiques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86400" y="1879560"/>
            <a:ext cx="251964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fonctionnai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3930480"/>
            <a:ext cx="2521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Plus grande liberté et responsabilité accrue des acteurs de l’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Des objectifs cl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31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3933720"/>
            <a:ext cx="274644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Citoyens : meilleure compréhension de l’utilisation des impô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Usagers : des services publics mieux adaptés aux bes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Contribuables : meilleure utilisation des impô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4500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 Narrow"/>
              </a:rPr>
              <a:t>des citoy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1E4B5-DD62-45DF-9790-B0C5724EA3EA}" type="slidenum">
              <a:t>3</a:t>
            </a:fld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es premiers résultats encouragean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France 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specté les dates limit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fixée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</a:t>
            </a:r>
            <a:r>
              <a:rPr b="0" lang="pl-PL" sz="1800" spc="-1" strike="noStrike" baseline="30000">
                <a:solidFill>
                  <a:srgbClr val="4d4d4d"/>
                </a:solidFill>
                <a:latin typeface="Arial"/>
              </a:rPr>
              <a:t>èr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loi de finances voté en mode LOLF en 2006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1ers comptes 2006 certifiés par la Cour des Compt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naissance d’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uvelle forme de respons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encourageant les ministères à redéfinir leurs objectif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léguant les responsabilité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le nouveau système encourage l’amélioration de la qualité du service public et une meilleure utilisation des ressources publiqu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cloisonn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s services entre les opérationnels, les financiers et les ressources humain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enrichissement réel du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ialogue de ges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mais une déclinaison de la performance à améliore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DC08A-CC3D-403C-AAB9-86630EB70D86}" type="slidenum">
              <a:t>30</a:t>
            </a:fld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algré des débuts diffici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e phase d’apprentissag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nouveaux standards, nouveaux outils, nouveau calendrier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arges de manœuvre encore faibl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des faibles redéploiements, des fléchages de crédits par les administrations centrales …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harge de travail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lus complexe et plus grande (plus d'informations, de procédures d'engagement de dépense, etc.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soucis concernant la disponibilité et l'exactitude de certain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util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notamment les systèmes intégrés de gestion. Un débat non tranché sur le partage des gains de productivité ( peu de contrats pluriannuel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 problème de l’application de la réforme en  période de déficit budgé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6F458-891D-4348-AF13-BC9625B35941}" type="slidenum">
              <a:t>31</a:t>
            </a:fld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défis de plus long ter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politiqu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la réalité du rôle du Parle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 administratif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cohérence entre les périmètres des programmes importants (100) et les compétences des administrations centrales (200 direction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relations entre les administrations centrales et les services déconcentr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relations entre les acteurs : ministère des finances/ ministères gestionnaires ; responsables de programmes opérationnels /directions support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citations pour réaliser les résultats et améliorer la gestion des ressources humaines (carrière, salaires, bonifications, etc.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culturel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: le passage d’une culture de moyens et de régularité à une culture de résulta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techniqu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améliorer les systèmes d'information pour la qualité et la fiabilité des donnée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B8C85-ABEE-4FBE-8B7B-142AD425EE7E}" type="slidenum">
              <a:t>32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lusieurs réformes dans un texte solenn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Une nouvell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nomenclature budgétair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ans la discussion, le vote et l’exécution des lois de finances pour présenter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es finalités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Un budget orienté vers les résultat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vec des objectifs et des indicateurs d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erformanc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pour une permettre une nouvelle gestion publique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Des comptes plus transparents et plus précis basés sur la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comptabilité en droits constatés («accrual»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et l'analyse des coûts, donnant aux gestionnaires de nouveaux outils pour gérer leur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Un nouveau système de gouvernance budgétaire et de procédure budgétaire: une collégialité gouvernementale et un rôle plus actif du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rlemen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ans l’autorisation et le contrôle de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917C5-0E6F-4F34-A6ED-FDCFB80EE9A0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. La nouvelle architecture budgétair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249720" y="2209320"/>
            <a:ext cx="5892840" cy="3208320"/>
            <a:chOff x="3249720" y="2209320"/>
            <a:chExt cx="5892840" cy="3208320"/>
          </a:xfrm>
        </p:grpSpPr>
        <p:sp>
          <p:nvSpPr>
            <p:cNvPr id="116" name=""/>
            <p:cNvSpPr/>
            <p:nvPr/>
          </p:nvSpPr>
          <p:spPr>
            <a:xfrm>
              <a:off x="5238720" y="2209320"/>
              <a:ext cx="230652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4000" spc="-1" strike="noStrike">
                  <a:solidFill>
                    <a:srgbClr val="000000"/>
                  </a:solidFill>
                  <a:latin typeface="Arial"/>
                </a:rPr>
                <a:t>Miss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"/>
            <p:cNvCxnSpPr/>
            <p:nvPr/>
          </p:nvCxnSpPr>
          <p:spPr>
            <a:xfrm rot="5400000">
              <a:off x="5938920" y="3431160"/>
              <a:ext cx="926280" cy="684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18" name=""/>
            <p:cNvSpPr/>
            <p:nvPr/>
          </p:nvSpPr>
          <p:spPr>
            <a:xfrm>
              <a:off x="3630600" y="388872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24640" y="3888720"/>
              <a:ext cx="15238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388872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"/>
            <p:cNvCxnSpPr>
              <a:stCxn id="116" idx="2"/>
              <a:endCxn id="118" idx="0"/>
            </p:cNvCxnSpPr>
            <p:nvPr/>
          </p:nvCxnSpPr>
          <p:spPr>
            <a:xfrm rot="5400000">
              <a:off x="4929120" y="2424600"/>
              <a:ext cx="924480" cy="200268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cxnSp>
          <p:nvCxnSpPr>
            <p:cNvPr id="122" name=""/>
            <p:cNvCxnSpPr>
              <a:stCxn id="116" idx="2"/>
              <a:endCxn id="120" idx="0"/>
            </p:cNvCxnSpPr>
            <p:nvPr/>
          </p:nvCxnSpPr>
          <p:spPr>
            <a:xfrm flipH="1" rot="16200000">
              <a:off x="6923520" y="2431800"/>
              <a:ext cx="924480" cy="198792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5396040" y="5029920"/>
              <a:ext cx="90000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9200" y="5029920"/>
              <a:ext cx="87948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21320" y="5029920"/>
              <a:ext cx="79056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9720" y="5028480"/>
              <a:ext cx="83340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18" idx="2"/>
              <a:endCxn id="126" idx="0"/>
            </p:cNvCxnSpPr>
            <p:nvPr/>
          </p:nvCxnSpPr>
          <p:spPr>
            <a:xfrm rot="5400000">
              <a:off x="3683520" y="4320360"/>
              <a:ext cx="691200" cy="72756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8" name=""/>
            <p:cNvCxnSpPr>
              <a:stCxn id="118" idx="2"/>
              <a:endCxn id="124" idx="0"/>
            </p:cNvCxnSpPr>
            <p:nvPr/>
          </p:nvCxnSpPr>
          <p:spPr>
            <a:xfrm rot="5400000">
              <a:off x="3999240" y="4637880"/>
              <a:ext cx="692640" cy="9432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9" name=""/>
            <p:cNvCxnSpPr>
              <a:stCxn id="118" idx="2"/>
              <a:endCxn id="123" idx="0"/>
            </p:cNvCxnSpPr>
            <p:nvPr/>
          </p:nvCxnSpPr>
          <p:spPr>
            <a:xfrm flipH="1" rot="16200000">
              <a:off x="4772160" y="3958200"/>
              <a:ext cx="692640" cy="145332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30" name=""/>
            <p:cNvCxnSpPr>
              <a:stCxn id="118" idx="2"/>
              <a:endCxn id="125" idx="0"/>
            </p:cNvCxnSpPr>
            <p:nvPr/>
          </p:nvCxnSpPr>
          <p:spPr>
            <a:xfrm flipH="1" rot="16200000">
              <a:off x="4357800" y="4372560"/>
              <a:ext cx="692640" cy="62460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</p:grpSp>
      <p:sp>
        <p:nvSpPr>
          <p:cNvPr id="131" name=""/>
          <p:cNvSpPr/>
          <p:nvPr/>
        </p:nvSpPr>
        <p:spPr>
          <a:xfrm>
            <a:off x="609480" y="3772080"/>
            <a:ext cx="2667240" cy="1828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838760"/>
            <a:ext cx="28958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611280" y="3735360"/>
            <a:ext cx="2666880" cy="41904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171880"/>
            <a:ext cx="266724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1760" y="2400480"/>
            <a:ext cx="222804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iscussion et vote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au Par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1560" y="3733920"/>
            <a:ext cx="149184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Auto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Exé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69197-7053-4683-ACA8-7B7415620355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mission : l’expression des choix polit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35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32 missions pour le budget généra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’identification de politiques publiques cohérentes : «Une mission comprend un ensemble de programmes concourant à une politique publique définie»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lle est l'unité de vote du Parle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lle regroupe un ensemble de programmes,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Parlement peut réallouer les crédits entre programmes, au sein d'une miss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lle peut être ministérielle ou interministériel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8 missions interministérielles,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xemple : la mission «Recherche» qui concerne 6 ministèr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4F8ED-D215-40CE-AFB0-5D9E5260FE1B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826920" y="1928160"/>
            <a:ext cx="7858440" cy="4674960"/>
            <a:chOff x="826920" y="1928160"/>
            <a:chExt cx="7858440" cy="4674960"/>
          </a:xfrm>
        </p:grpSpPr>
        <p:sp>
          <p:nvSpPr>
            <p:cNvPr id="140" name=""/>
            <p:cNvSpPr/>
            <p:nvPr/>
          </p:nvSpPr>
          <p:spPr>
            <a:xfrm>
              <a:off x="7153200" y="2139480"/>
              <a:ext cx="15224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nseign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Supérieur 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Recher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6920" y="1928160"/>
              <a:ext cx="6105600" cy="120996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Formation supérieure et recherche universita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Vie étudi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s scientifiques et technologiques pluridisciplin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 la gestion des milieux et des ressour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spati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6890400" y="24944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6920" y="338256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industrie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53200" y="3136680"/>
              <a:ext cx="1522440" cy="8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Économi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Industrie et</a:t>
              </a:r>
              <a:br>
                <a:rPr sz="1400"/>
              </a:b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mplo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6890400" y="352188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6920" y="3889080"/>
              <a:ext cx="6105600" cy="99684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s risques et des pollu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 l'énerg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s transports, de l'équipement et de l'habit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53200" y="388908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Écologi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Aménagement dur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6890400" y="435060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53200" y="501660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Déf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6920" y="501480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uale (civile et militair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6890400" y="515736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6920" y="624564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upérieur et recherche agrico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53200" y="624564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Agri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890400" y="63896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62920" y="561852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6640" y="5615280"/>
              <a:ext cx="610704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culturelle et culture scientif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6899760" y="5759640"/>
              <a:ext cx="298440" cy="74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mission « Recherche et enseignement supérieur »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12 programmes / 6 ministèr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5D01D-5FFB-4150-9556-33D425451CC9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 programme : cadre d’autorisation et de gestion des politiques publ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130 programmes pour le budget généra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programme regroupe les crédits (quelle qu’en soit la nature) destinés à mettre en œuvre une action ou un ensemble cohérent d'actions (600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l relève d'un seul minist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ité de spécialité des crédits et de définition des objectifs et indicateurs de résulta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as de budgétisation analytiqu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l nécessite un pilotage qui fait apparaître de nouvelles fonctions managériales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04840"/>
            <a:ext cx="701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55520" y="204840"/>
            <a:ext cx="765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2F246-58E2-40C2-A1D4-A791DBD95F21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2967120"/>
            <a:ext cx="3657600" cy="53496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dministration pénitent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5110200"/>
            <a:ext cx="3657600" cy="99864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Conduite et pilotage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la politique de la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et organismes rattach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349360"/>
            <a:ext cx="3657600" cy="45720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Justice judic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3662280"/>
            <a:ext cx="3657600" cy="7444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rotection judiciaire </a:t>
            </a:r>
            <a:br>
              <a:rPr sz="2000"/>
            </a:b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de la jeun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4567320"/>
            <a:ext cx="3657600" cy="3826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ccès au droit et à la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globalisation des crédits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L’exemple de la mission «justice»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2200" y="1484280"/>
            <a:ext cx="4267080" cy="4897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Avant : 30 chapi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160 articles de pré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III - Moyens des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- rémunérations d'activ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en retraite - pensions et allo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en activité et en retraite - charges so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Matériel et fonctionnement des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Subventions de fonctionn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Dépenses diver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IV - Interventions publ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Interventions politiques et administr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Actions sociale - assistance et solidar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V - Investissements exécutés par l'É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Équipement administratifs et di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VI - Subventions d'investissement accordées par l'É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Équipement culturel et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95840" y="3044880"/>
            <a:ext cx="380880" cy="1600200"/>
          </a:xfrm>
          <a:prstGeom prst="rightArrow">
            <a:avLst>
              <a:gd name="adj1" fmla="val 71824"/>
              <a:gd name="adj2" fmla="val 50833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1679400"/>
            <a:ext cx="36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Après : 5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918CD-A7AD-4AA2-83FD-FC5F833101E8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25:37Z</dcterms:created>
  <dc:creator>MINEFI</dc:creator>
  <dc:description/>
  <dc:language>en-US</dc:language>
  <cp:lastModifiedBy>KAS</cp:lastModifiedBy>
  <dcterms:modified xsi:type="dcterms:W3CDTF">2009-02-05T12:50:16Z</dcterms:modified>
  <cp:revision>168</cp:revision>
  <dc:subject/>
  <dc:title>La gestion de la réforme budgétaire </dc:title>
</cp:coreProperties>
</file>